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DFC-175C-46EE-9787-2717FA69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A88-01AB-43AF-A264-86BD920C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7F3-57BB-458F-AD1E-CFC082BA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A81-7078-410C-879A-64C8D383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0345-2564-4DC9-9E3B-200051CD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42F0-6792-4EBD-9FD9-BB8261D0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B7D9-819B-4041-8B84-BD7DF944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2556-B58A-47AB-B812-58BE3559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230C-BE9B-4AF2-83F7-CF7EBA9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8C0C-396F-4866-8AFF-2C645777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A1AB-8DEA-4F23-9899-8A8CA19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D23-3C96-4C13-9534-D32C0795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117C-F006-4C0A-A9CB-62B6B096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EF0C-B25F-495D-B733-52ECF21C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FC56-11BA-467E-A9BE-46AE9E44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F00F-E316-4181-8BCC-1763A9AA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12E0-95A3-4FB9-9E8B-379E97AD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18D-692A-4183-8C72-68B2B4BB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D83-F8D2-41A0-988E-54A3A112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6B8-1171-44A7-BF9D-5E28228D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5B2-9CBA-4E09-A948-78078894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00B-1599-4310-AA56-A70DEB8C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0CB-5719-4AA8-AF18-93D502CE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5F7-27BA-4EBA-A169-6F935E5D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79a9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F833-F8E3-40D9-B688-D74B3E8ACD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79a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455b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a9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a9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DE81-38F0-4A44-96DB-2093D50F30B4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Pagliaro@seymourschools.org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esar_augustus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upload.wikimedia.org/wikipedia/commons/e/eb/Statue-Augustus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ome Review 3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me Becomes an Emp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Christopher J. Pagliar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Seymour High Scho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CPagliaro@seymourschools.or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Copyright 2007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2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 Triumvirate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5" descr="702augustus"/>
          <p:cNvPicPr/>
          <p:nvPr/>
        </p:nvPicPr>
        <p:blipFill>
          <a:blip r:embed="rId1"/>
          <a:stretch/>
        </p:blipFill>
        <p:spPr>
          <a:xfrm>
            <a:off x="228600" y="1523880"/>
            <a:ext cx="3122640" cy="3581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Octavian-Augustus"/>
          <p:cNvPicPr/>
          <p:nvPr/>
        </p:nvPicPr>
        <p:blipFill>
          <a:blip r:embed="rId2"/>
          <a:stretch/>
        </p:blipFill>
        <p:spPr>
          <a:xfrm>
            <a:off x="3352680" y="1523880"/>
            <a:ext cx="2256120" cy="3733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ompeius_normal"/>
          <p:cNvPicPr/>
          <p:nvPr/>
        </p:nvPicPr>
        <p:blipFill>
          <a:blip r:embed="rId3"/>
          <a:stretch/>
        </p:blipFill>
        <p:spPr>
          <a:xfrm>
            <a:off x="5562720" y="1447920"/>
            <a:ext cx="260964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0"/>
          <p:cNvSpPr txBox="1"/>
          <p:nvPr/>
        </p:nvSpPr>
        <p:spPr>
          <a:xfrm>
            <a:off x="1371600" y="5257800"/>
            <a:ext cx="643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latin typeface="Californian FB"/>
              </a:rPr>
              <a:t>Marc Antony, Octavian, &amp; Lepid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0a0"/>
              </a:solidFill>
              <a:latin typeface="Californian FB"/>
              <a:ea typeface="Californian FB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Times New Roman"/>
              </a:rPr>
              <a:t>Octavian</a:t>
            </a:r>
            <a:r>
              <a:rPr b="0" lang="en-US" sz="42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4200" spc="-1" strike="noStrike">
                <a:solidFill>
                  <a:srgbClr val="7030a0"/>
                </a:solidFill>
                <a:latin typeface="Times New Roman"/>
              </a:rPr>
              <a:t>Augustus</a:t>
            </a:r>
            <a:r>
              <a:rPr b="0" lang="en-US" sz="42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4200" spc="-1" strike="noStrike">
                <a:solidFill>
                  <a:srgbClr val="7030a0"/>
                </a:solidFill>
                <a:latin typeface="Times New Roman"/>
              </a:rPr>
              <a:t>EMPIRE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ctavian began rule c. 27 B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emperor (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mperato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rved all levels of govern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itl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ugust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Pontifex Maxim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Princep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Pax Romana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g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5" descr="Augustus as a magistrat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23880"/>
            <a:ext cx="2702160" cy="4876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Image:Statue-August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371600"/>
            <a:ext cx="327636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Augustus’ Reform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Refor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Restored Roman Relig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Morality Law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Increased tra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fe land and sea trade routes aided economic grow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raded with Spain, Africa, Asia, Gau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ified currenc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ass division worsen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sults of Roman expansion produced social conflict and civil wa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ulius Caesar gained power and became a dictator but was then assassinat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ign of Augustus began a long period of imperial rule and peace in the Roman Empi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Why it matters now…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me faced the problems of how to maintain peace, law, and order. Modern governments face similar problem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Reformer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iberius &amp; Gaius Gracch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Give land to plebeians?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Murdered as enemies of the Senate in 133 and 122 BC</a:t>
            </a: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Picture 5" descr="gc_gracchi"/>
          <p:cNvPicPr/>
          <p:nvPr/>
        </p:nvPicPr>
        <p:blipFill>
          <a:blip r:embed="rId1"/>
          <a:stretch/>
        </p:blipFill>
        <p:spPr>
          <a:xfrm>
            <a:off x="4572000" y="2057400"/>
            <a:ext cx="4267080" cy="364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ivil War:91-82 BC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9" descr="Image:Cornelio Sila.jpg"/>
          <p:cNvPicPr/>
          <p:nvPr/>
        </p:nvPicPr>
        <p:blipFill>
          <a:blip r:embed="rId1"/>
          <a:stretch/>
        </p:blipFill>
        <p:spPr>
          <a:xfrm>
            <a:off x="990720" y="1600200"/>
            <a:ext cx="2441520" cy="3562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5334120" y="51814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aius Mari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13" descr="marius"/>
          <p:cNvPicPr/>
          <p:nvPr/>
        </p:nvPicPr>
        <p:blipFill>
          <a:blip r:embed="rId2"/>
          <a:stretch/>
        </p:blipFill>
        <p:spPr>
          <a:xfrm>
            <a:off x="5334120" y="1676520"/>
            <a:ext cx="2842920" cy="3539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6"/>
          <p:cNvSpPr/>
          <p:nvPr/>
        </p:nvSpPr>
        <p:spPr>
          <a:xfrm>
            <a:off x="609480" y="53341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ucius Cornelius Sulla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f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WordArt 17"/>
          <p:cNvSpPr txBox="1"/>
          <p:nvPr/>
        </p:nvSpPr>
        <p:spPr>
          <a:xfrm>
            <a:off x="533520" y="5943600"/>
            <a:ext cx="31240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137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vored by Patrici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8" name="WordArt 18"/>
          <p:cNvSpPr txBox="1"/>
          <p:nvPr/>
        </p:nvSpPr>
        <p:spPr>
          <a:xfrm>
            <a:off x="5181480" y="5867280"/>
            <a:ext cx="312444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137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vored by Plebei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Sulla’s Successor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mpey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an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ass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rassus"/>
          <p:cNvPicPr/>
          <p:nvPr/>
        </p:nvPicPr>
        <p:blipFill>
          <a:blip r:embed="rId1"/>
          <a:stretch/>
        </p:blipFill>
        <p:spPr>
          <a:xfrm>
            <a:off x="5562720" y="2286000"/>
            <a:ext cx="2921040" cy="378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mage:CS002910.jpg"/>
          <p:cNvPicPr/>
          <p:nvPr/>
        </p:nvPicPr>
        <p:blipFill>
          <a:blip r:embed="rId2"/>
          <a:stretch/>
        </p:blipFill>
        <p:spPr>
          <a:xfrm>
            <a:off x="990720" y="2209680"/>
            <a:ext cx="281916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Sulla Spared Marius’ aid…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Julius Caes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8" descr="Image:Julius caesar.jpg"/>
          <p:cNvPicPr/>
          <p:nvPr/>
        </p:nvPicPr>
        <p:blipFill>
          <a:blip r:embed="rId1"/>
          <a:stretch/>
        </p:blipFill>
        <p:spPr>
          <a:xfrm>
            <a:off x="4343400" y="1600200"/>
            <a:ext cx="26370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7030a0"/>
                </a:solidFill>
                <a:latin typeface="Times New Roman"/>
              </a:rPr>
              <a:t>First Triumvirate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officially ruled Rome &amp; its Territories from 60 BC-53 B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Image:CS002910.jpg"/>
          <p:cNvPicPr/>
          <p:nvPr/>
        </p:nvPicPr>
        <p:blipFill>
          <a:blip r:embed="rId1"/>
          <a:stretch/>
        </p:blipFill>
        <p:spPr>
          <a:xfrm>
            <a:off x="380880" y="2590920"/>
            <a:ext cx="2819520" cy="378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rassus"/>
          <p:cNvPicPr/>
          <p:nvPr/>
        </p:nvPicPr>
        <p:blipFill>
          <a:blip r:embed="rId2"/>
          <a:stretch/>
        </p:blipFill>
        <p:spPr>
          <a:xfrm>
            <a:off x="3276720" y="2590920"/>
            <a:ext cx="2921040" cy="378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age:Julius caesar.jpg"/>
          <p:cNvPicPr/>
          <p:nvPr/>
        </p:nvPicPr>
        <p:blipFill>
          <a:blip r:embed="rId3"/>
          <a:stretch/>
        </p:blipFill>
        <p:spPr>
          <a:xfrm>
            <a:off x="6324480" y="2590920"/>
            <a:ext cx="210204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7"/>
          <p:cNvSpPr txBox="1"/>
          <p:nvPr/>
        </p:nvSpPr>
        <p:spPr>
          <a:xfrm>
            <a:off x="1219320" y="57150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Pompey, Crassus, &amp; Caes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Who was Julius Caesar?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ne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Helped Marius conquer Spain &amp; Asia Minor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Conquered Gau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i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Popular with Plebeian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Unpopular with Senat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fter defeating Gaul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Ordered to disband Army by Pompey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Crossed Rubicon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170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egan 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Civil War in 46 B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5" descr="Image:LocationRubicon.PNG"/>
          <p:cNvPicPr/>
          <p:nvPr/>
        </p:nvPicPr>
        <p:blipFill>
          <a:blip r:embed="rId1"/>
          <a:stretch/>
        </p:blipFill>
        <p:spPr>
          <a:xfrm>
            <a:off x="1295280" y="1600200"/>
            <a:ext cx="609624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ollaborated with Cleopatra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5" descr="cleopatraV2"/>
          <p:cNvPicPr/>
          <p:nvPr/>
        </p:nvPicPr>
        <p:blipFill>
          <a:blip r:embed="rId1"/>
          <a:stretch/>
        </p:blipFill>
        <p:spPr>
          <a:xfrm>
            <a:off x="685800" y="1600200"/>
            <a:ext cx="4662360" cy="360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79132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feated Pompe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Dictator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solute Rul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Reform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Calendar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Jobs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Expansion of Senate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Expansion of citizenship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Lower taxes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uld he be king?  Tyrant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Murdered March 15, 44 BC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Death Ended the Republic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1:41:26Z</dcterms:created>
  <dc:creator>Chris</dc:creator>
  <dc:description/>
  <dc:language>en-US</dc:language>
  <cp:lastModifiedBy>cpagliaro</cp:lastModifiedBy>
  <dcterms:modified xsi:type="dcterms:W3CDTF">2010-12-20T13:54:05Z</dcterms:modified>
  <cp:revision>7</cp:revision>
  <dc:subject/>
  <dc:title>Rome Review 3: Rome Becomes an Empire</dc:title>
</cp:coreProperties>
</file>